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33C5A-1649-4F5C-9E47-86EC5F0A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797B1-0AB6-42CA-A281-38AEF689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0F531-6490-4145-AD19-3354B6CF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C30C6-1654-41F4-926B-4C581A1C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645ED-D369-4568-A49A-663FE92B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CBCCE-4E61-492E-A3CE-442391F5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98309-1B56-480C-96DB-1820DFBB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2D69B-958F-45F0-8B01-FFE2C5E2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83802-9047-40EA-A61B-FFAC1629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10CEE-B99F-4248-B095-B630F72E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82F92-692E-4195-BAA0-3AEEAE47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AF983-1B7B-4CE4-9730-6E1FECE9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DFD9F6-4A7B-40BC-8A66-E83A74CF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1699DC-5BBC-49FE-B319-3B98D68D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95DDC5-B4C9-4F0F-9EB1-550DB281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C03C27-EACA-4656-BCE9-3698E0FA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5C5DC5-49D7-4926-ABF9-19ED9921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2FF35C-5B35-4C39-A4C2-90D4A329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C9BFE5-462F-4F70-8790-2A654531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C5E861-D532-4AF7-9271-844420BB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6A0247-A435-478D-B506-5699F1F2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2536B-907B-4D7D-B38B-C346F75B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0E3975-18FF-47EA-AF75-8CFC4FDB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25D669-3840-4725-82DD-6F50B3F7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D:%5Cppts%20from%20c%20drive%5Cppt%20collections%5Cleeds%5Ccoffee.ppt" TargetMode="External"/><Relationship Id="rId3" Type="http://schemas.openxmlformats.org/officeDocument/2006/relationships/hyperlink" Target="D:%5Cppts%20from%20c%20drive%5Cppt%20collections%5Cleeds%5CChoices&#8230;.ppt" TargetMode="External"/><Relationship Id="rId4" Type="http://schemas.openxmlformats.org/officeDocument/2006/relationships/hyperlink" Target="D:%5Cppts%20from%20c%20drive%5Cppt%20collections%5COrganising%20your%20studies%5Corganising%20choices.ppt" TargetMode="External"/><Relationship Id="rId5" Type="http://schemas.openxmlformats.org/officeDocument/2006/relationships/hyperlink" Target="Choices&#8230;.ppt" TargetMode="External"/><Relationship Id="rId6" Type="http://schemas.openxmlformats.org/officeDocument/2006/relationships/hyperlink" Target="name%20labels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D:%5Cppts%20from%20c%20drive%5Cppt%20collections%5Cleeds%5CChoices&#8230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Choices&#8230;.pp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1030320" indent="-28584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3730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612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88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360" y="6329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rId2"/>
          </p:cNvPr>
          <p:cNvSpPr/>
          <p:nvPr/>
        </p:nvSpPr>
        <p:spPr>
          <a:xfrm>
            <a:off x="685800" y="609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3"/>
          </p:cNvPr>
          <p:cNvSpPr/>
          <p:nvPr/>
        </p:nvSpPr>
        <p:spPr>
          <a:xfrm>
            <a:off x="800100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4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5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6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3120" y="1530360"/>
            <a:ext cx="7759440" cy="2044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55BE-25CD-4ACA-B051-1343D5F92181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7011-A76E-48DB-BE4A-CC87889371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7956360" y="152280"/>
            <a:ext cx="612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3399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a0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a0c6a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99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101080" y="189000"/>
            <a:ext cx="574560" cy="1080720"/>
            <a:chOff x="8101080" y="189000"/>
            <a:chExt cx="574560" cy="1080720"/>
          </a:xfrm>
        </p:grpSpPr>
        <p:sp>
          <p:nvSpPr>
            <p:cNvPr id="89" name=""/>
            <p:cNvSpPr/>
            <p:nvPr/>
          </p:nvSpPr>
          <p:spPr>
            <a:xfrm>
              <a:off x="810108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227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108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227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67200" y="32940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0108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2276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6720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89240" y="46944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01080" y="609120"/>
              <a:ext cx="86400" cy="10008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27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67200" y="609120"/>
              <a:ext cx="86400" cy="10008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108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2276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720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240" y="749520"/>
              <a:ext cx="86400" cy="1004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01080" y="88992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27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67200" y="8899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108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276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4516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6720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276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6720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264360" y="6070680"/>
            <a:ext cx="287964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8540-7062-497F-A787-2097C940782C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4AA5-0CD9-491C-94D1-DC75A7DBCFA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3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9304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70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614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45520" y="327672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9304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7708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6148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4552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9560" y="4127400"/>
              <a:ext cx="201600" cy="2034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3040" y="441180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70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614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45520" y="441180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451640" y="1052640"/>
            <a:ext cx="1071720" cy="16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o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yes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no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do you know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can you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yourself that you 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do understand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- but I don’t care”. (attrib. Homer Simpson)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461BD-0424-4744-876C-AC049DC7E22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‘</a:t>
            </a: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Demonstrate your understanding of…’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But how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n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r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om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level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Just once, or several time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In just one way, or in several way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standard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For what purpos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A most unsatisfactory phrase – an excuse for not being clear with our students!!  Needs to be excised from all syllabus document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9B437-8544-469B-8065-FAC958486EA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Levels of 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aith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elief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nvict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bsess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rus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E3A47-3584-4C9F-8AE0-F7C6FFB95D2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A little learning is a dangerous thing”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 no learning is safer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re learning is even more dangerou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d how about a little understanding of what has been learned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s learning (noun) the same as understanding (noun)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earning (participle) certainly isn’t the same as understanding (participle)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39021-34A5-42A1-8763-97FC94B80D4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1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you understand?’ lecturer ask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(‘Understand what?’ thinks student. ‘What am I supposed to understand?’ ‘What will he/she think of me if I say “no”?’ ‘If I say “yes” will he/she ask me a difficult question to catch me out?’ ‘Why am I being asked this anyway?’ ‘Is it going to be important for me to understand this?’. ‘How will I know when I understand it?’. ‘What will I be able to do when I understand it?’. ‘How will I be able to demonstrate my understanding of it?’. ‘Do I actually have to understand it, or will it be enough simply to demonstrate my understanding of it, by doing something I can do, even when I don’t understand it?’. ‘Does he/she understand it, anyway?’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mmm’ replies student (as soon as possible after all that thinking).    … continued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7B906-7CF5-4B61-B3E5-4B0D8EFDEE0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2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don’t understand it then?’ alleg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ell, …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understand it well?’ smil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about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h, good’ says lecturer. ‘I made myself clear then?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f course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[Because of things like this, the word is best avoided in intended learning outcomes – and in life in general, except to get people thinking]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E37DA-2E6E-489E-AD5D-2EFAC5D0268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Knight, P and Yorke, M (2003:48) </a:t>
            </a:r>
            <a:r>
              <a:rPr b="1" i="1" lang="en-GB" sz="2600" spc="-1" strike="noStrike">
                <a:solidFill>
                  <a:srgbClr val="330066"/>
                </a:solidFill>
                <a:latin typeface="Arial"/>
              </a:rPr>
              <a:t>Assessment, learning and employability</a:t>
            </a: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 Maidenhead, UK SRHE/Open University Press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uncertainty about what counts as understanding. Side-stepping some important philosophical issues, we suggest that a student who understands something is able to apply it appropriately to a fresh situation (demonstration by far transfer) or to evaluate it (demonstration by analysis). Understanding cannot be judged, then, by evaluating the learner’s retention of data or information; rather, assessment tasks would need to have the student apply data or information appropriate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Bowl, M (2003:90) </a:t>
            </a:r>
            <a:r>
              <a:rPr b="1" i="1" lang="en-GB" sz="2000" spc="-1" strike="noStrike">
                <a:solidFill>
                  <a:srgbClr val="330066"/>
                </a:solidFill>
                <a:latin typeface="Arial"/>
              </a:rPr>
              <a:t>Non-traditional entrants to higher education ‘they talk about people like me’</a:t>
            </a: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 Stoke on Trent, UK, Trentham Books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hardship was not understanding. When they give you an assignment and say it was on this handout. But my difficulty is not understanding what to do at first… I think that there’s a lack of my reading ability, which I can’t blame anyone for. I can only blame myself because I don’t like reading. And if you don’t read, you’re not going to learn certain things. So I suppose that’s to do with me…..it’s reading as well as putting what you read into your essay. You can read it and understand it. I can read and understand it, but then you have to incorporate it into your own words. But in the words they want you to say it in, not just: She said this, and this is the way it should be. The words, the proper language. Maybe it’s because I have difficulty pronouncing certain words. I avoid using them as they’re not familiar to me. When I’m writing, I find that because I’m not familiar with those words, it’s hard to write them… I haven’t really gone into it, because I don’t want them to say, you’re not supposed to be on this course, or anything like that. I’ve come too far now for them to say that, so I don’t like raising the issue. (Helen, brought up in Jama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M Office System</dc:creator>
  <dc:description/>
  <dc:language>en-US</dc:language>
  <cp:lastModifiedBy>Brown</cp:lastModifiedBy>
  <dcterms:modified xsi:type="dcterms:W3CDTF">2008-03-17T11:14:19Z</dcterms:modified>
  <cp:revision>219</cp:revision>
  <dc:subject/>
  <dc:title>Towards Active Learning</dc:title>
</cp:coreProperties>
</file>